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477-3C07-49F1-9014-65DADBB7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5DF-6585-43FB-B672-DEFAA9BD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809-B240-431F-BE6E-B100B2C6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3A5-7653-4484-B1D5-C3CD4745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3FD4-FF69-404A-9069-19D2E3EB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B69-F3E3-4C70-971D-A1985A22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79E-D23A-42DD-9C9D-AFC07DC0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7758-70B1-4854-B059-2C9279F9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61CB-F7ED-454C-80CD-C763B6C3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635-1BE9-4630-ABD5-F604D0D4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84A-5FE2-4D34-9B2E-483ECE5A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A61-7D8B-424C-BA00-7C3931BB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5550-6B8C-4804-B951-0963FC412C6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3280" y="1125360"/>
            <a:ext cx="8677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8032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هو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هود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هود عليه السلام مع قو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ن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41608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27160" y="4724280"/>
            <a:ext cx="8665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أبي بكر رضي الله عنه أنه قال : يا رسول الله : قد شبت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: ((شيبتني هود والواقعة والمرسلات وعم يتساءلون وإذا الشمس كورت)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رسل في الدعوة إ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ن أسس العقيدة الإسلا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مآل المؤمنين والكافرين يوم القيا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رسول صلى الله عليه وسلم وأصحابه إلى الص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6T09:39:12Z</dcterms:modified>
  <cp:revision>1796</cp:revision>
  <dc:subject/>
  <dc:title>عرض تقديمي في PowerPoint</dc:title>
</cp:coreProperties>
</file>